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29.wmf" ContentType="image/x-wmf"/>
  <Override PartName="/ppt/media/image94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80.wmf" ContentType="image/x-wmf"/>
  <Override PartName="/ppt/media/image16.wmf" ContentType="image/x-wmf"/>
  <Override PartName="/ppt/media/image81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82D-7117-4695-B62A-4DB5E40F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AFA-54A3-45DC-8A52-06C645AF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E55-E968-437E-9BDE-27305A73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648-3424-4B69-B712-2497C619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BF8-371D-4627-9B04-2F29B07B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6FF-3626-428A-9156-E941AA40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B0C-DE7F-4849-9555-35E28BF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179-95E5-439F-A68C-3DED1CD7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0D2-8DBE-452F-A6C2-E05FA7A1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458-D18D-4F3A-B777-8661372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6AA-B0F4-4C66-932B-4B17BF7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864-5A73-4A58-B410-720A36D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8488-C35B-460F-917B-6586DC0E0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0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3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2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2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4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9.wmf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6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8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2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7.wmf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0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3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9.wmf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3.wmf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6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8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1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4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4480" y="3857760"/>
            <a:ext cx="64594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ww.maths4scotland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7080" y="602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805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3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333520" y="1125360"/>
          <a:ext cx="2146320" cy="81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1125360"/>
                    <a:ext cx="21463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43320" y="2214720"/>
          <a:ext cx="1811160" cy="95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3320" y="2214720"/>
                    <a:ext cx="18111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8360" y="356076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640" y="45813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3640" y="3279600"/>
          <a:ext cx="1251000" cy="79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3279600"/>
                    <a:ext cx="1251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30560" y="4281480"/>
          <a:ext cx="1776240" cy="98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4281480"/>
                    <a:ext cx="177624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11700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160720" y="963720"/>
          <a:ext cx="2963880" cy="81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720" y="963720"/>
                    <a:ext cx="29638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20000" y="227952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1080" y="30448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752560" y="2139840"/>
          <a:ext cx="2962440" cy="5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52560" y="2139840"/>
                    <a:ext cx="2962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19280" y="47163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959200" y="2897280"/>
          <a:ext cx="1876320" cy="59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59200" y="2897280"/>
                    <a:ext cx="18763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18920" y="390384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354480" y="3591000"/>
          <a:ext cx="180972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4480" y="3591000"/>
                    <a:ext cx="18097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573360" y="4462560"/>
          <a:ext cx="1316160" cy="79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3360" y="4462560"/>
                    <a:ext cx="1316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06520" y="1216080"/>
          <a:ext cx="132876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6520" y="1216080"/>
                    <a:ext cx="1328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19640" y="2279520"/>
            <a:ext cx="1342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62320" y="2139840"/>
          <a:ext cx="1941480" cy="5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62320" y="2139840"/>
                    <a:ext cx="19414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508200" y="3141720"/>
          <a:ext cx="1447920" cy="59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8200" y="3141720"/>
                    <a:ext cx="14479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21080" y="32130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55760" y="1216080"/>
          <a:ext cx="143028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5760" y="1216080"/>
                    <a:ext cx="14302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720000" y="22795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197160" y="2139840"/>
          <a:ext cx="2073240" cy="5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97160" y="2139840"/>
                    <a:ext cx="20732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303720" y="3083040"/>
          <a:ext cx="1744560" cy="59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3720" y="3083040"/>
                    <a:ext cx="17445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35480" y="317016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90600" y="1230480"/>
          <a:ext cx="245268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0600" y="1230480"/>
                    <a:ext cx="24526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720000" y="22795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74800" y="2182680"/>
          <a:ext cx="4015080" cy="66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4800" y="2182680"/>
                    <a:ext cx="4015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452680" y="973080"/>
          <a:ext cx="15001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52680" y="973080"/>
                    <a:ext cx="1500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720000" y="22795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5480" y="35622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928960" y="1890720"/>
          <a:ext cx="231948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28960" y="1890720"/>
                    <a:ext cx="23194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132000" y="3173400"/>
          <a:ext cx="1911600" cy="102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3173400"/>
                    <a:ext cx="19116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351160" y="973080"/>
          <a:ext cx="170496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51160" y="973080"/>
                    <a:ext cx="17049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20000" y="2527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5480" y="38098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746440" y="2138400"/>
          <a:ext cx="283032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6440" y="2138400"/>
                    <a:ext cx="2830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928960" y="3467160"/>
          <a:ext cx="194472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3467160"/>
                    <a:ext cx="1944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538360" y="1109520"/>
          <a:ext cx="1330200" cy="6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8360" y="1109520"/>
                    <a:ext cx="1330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720000" y="31939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6680" y="431784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7360" y="226368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743280" y="1924200"/>
          <a:ext cx="1501920" cy="88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3280" y="1924200"/>
                    <a:ext cx="1501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076560" y="2905200"/>
          <a:ext cx="2457360" cy="95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6560" y="2905200"/>
                    <a:ext cx="24573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349800" y="4005360"/>
          <a:ext cx="1911240" cy="95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49800" y="4005360"/>
                    <a:ext cx="191124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401920" y="976320"/>
          <a:ext cx="1361880" cy="116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1920" y="976320"/>
                    <a:ext cx="13618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764640" y="3643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1560" y="45925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2000" y="27129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605040" y="2585880"/>
          <a:ext cx="1667160" cy="56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05040" y="2585880"/>
                    <a:ext cx="16671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056040" y="3500280"/>
          <a:ext cx="2766960" cy="5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6040" y="3500280"/>
                    <a:ext cx="27669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957400" y="4464000"/>
          <a:ext cx="226404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57400" y="4464000"/>
                    <a:ext cx="2264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489040" y="1077840"/>
          <a:ext cx="1187640" cy="9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9040" y="1077840"/>
                    <a:ext cx="11876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64640" y="3643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1560" y="45925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2000" y="27129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565440" y="2436840"/>
          <a:ext cx="138924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5440" y="2436840"/>
                    <a:ext cx="1389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87720" y="3371760"/>
          <a:ext cx="234468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7720" y="3371760"/>
                    <a:ext cx="23446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463920" y="4349880"/>
          <a:ext cx="1592280" cy="75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63920" y="4349880"/>
                    <a:ext cx="1592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00" y="1212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93920" y="1114560"/>
          <a:ext cx="197640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93920" y="1114560"/>
                    <a:ext cx="19764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798640" y="2157480"/>
          <a:ext cx="102096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98640" y="2157480"/>
                    <a:ext cx="10209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481120" y="1038240"/>
          <a:ext cx="2514600" cy="101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1120" y="1038240"/>
                    <a:ext cx="2514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384280" y="2421000"/>
          <a:ext cx="271008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4280" y="2421000"/>
                    <a:ext cx="2710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314440" y="1289160"/>
          <a:ext cx="13399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4440" y="1289160"/>
                    <a:ext cx="1339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460600" y="2349360"/>
          <a:ext cx="1046160" cy="45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60600" y="2349360"/>
                    <a:ext cx="10461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28760" y="1287360"/>
          <a:ext cx="2614680" cy="4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28760" y="1287360"/>
                    <a:ext cx="26146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000160" y="2276640"/>
          <a:ext cx="307188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00160" y="2276640"/>
                    <a:ext cx="30718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476440" y="1255680"/>
          <a:ext cx="104472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6440" y="1255680"/>
                    <a:ext cx="10447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1857240" y="2276640"/>
          <a:ext cx="22845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2276640"/>
                    <a:ext cx="2284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398680" y="1263600"/>
          <a:ext cx="114480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8680" y="1263600"/>
                    <a:ext cx="11448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764640" y="3643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81560" y="45925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2000" y="27129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538440" y="2378160"/>
          <a:ext cx="12747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8440" y="2378160"/>
                    <a:ext cx="12747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3019320" y="3292560"/>
          <a:ext cx="2516400" cy="98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19320" y="3292560"/>
                    <a:ext cx="2516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951280" y="4264200"/>
          <a:ext cx="2449440" cy="98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51280" y="4264200"/>
                    <a:ext cx="244944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012000" y="4272120"/>
          <a:ext cx="1927080" cy="108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2000" y="4272120"/>
                    <a:ext cx="1927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463840" y="1308240"/>
          <a:ext cx="202572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3840" y="1308240"/>
                    <a:ext cx="20257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707400" y="25560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4320" y="35053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638440" y="2462040"/>
          <a:ext cx="307188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8440" y="2462040"/>
                    <a:ext cx="30718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129120" y="3429000"/>
          <a:ext cx="2090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9120" y="3429000"/>
                    <a:ext cx="2090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533680" y="1062000"/>
          <a:ext cx="114444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3680" y="1062000"/>
                    <a:ext cx="11444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78600" y="35146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5520" y="44640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408480" y="2332080"/>
          <a:ext cx="1341360" cy="81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08480" y="2332080"/>
                    <a:ext cx="13413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081240" y="3282840"/>
          <a:ext cx="1765440" cy="81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1240" y="3282840"/>
                    <a:ext cx="17654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3325680" y="4221000"/>
          <a:ext cx="1274760" cy="81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25680" y="4221000"/>
                    <a:ext cx="12747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219400" y="1298520"/>
          <a:ext cx="366552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9400" y="1298520"/>
                    <a:ext cx="3665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901880" y="2421000"/>
          <a:ext cx="430056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1880" y="2421000"/>
                    <a:ext cx="4300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260440" y="1162080"/>
          <a:ext cx="230040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0440" y="1162080"/>
                    <a:ext cx="2300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8600" y="35146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95520" y="44640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344760" y="2509920"/>
          <a:ext cx="26002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4760" y="2509920"/>
                    <a:ext cx="26002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295800" y="3429000"/>
          <a:ext cx="2700360" cy="44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95800" y="3429000"/>
                    <a:ext cx="2700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373560" y="4249800"/>
          <a:ext cx="2400120" cy="76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73560" y="4249800"/>
                    <a:ext cx="24001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273400" y="1149480"/>
          <a:ext cx="191592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3400" y="1149480"/>
                    <a:ext cx="19159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677880" y="351468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370320" y="2290680"/>
          <a:ext cx="2200320" cy="69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0320" y="2290680"/>
                    <a:ext cx="22003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182760" y="3218040"/>
          <a:ext cx="257652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82760" y="3218040"/>
                    <a:ext cx="2576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7600" y="1319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19400" y="963720"/>
          <a:ext cx="2752560" cy="10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9400" y="963720"/>
                    <a:ext cx="27525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13160" y="2411280"/>
          <a:ext cx="2930400" cy="108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3160" y="2411280"/>
                    <a:ext cx="29304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843360" y="4008600"/>
          <a:ext cx="2765520" cy="5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43360" y="4008600"/>
                    <a:ext cx="27655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78240" y="2741760"/>
            <a:ext cx="1028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6080" y="407664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95680" y="4911840"/>
          <a:ext cx="2073240" cy="52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95680" y="4911840"/>
                    <a:ext cx="2073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76440" y="501012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287440" y="1311120"/>
          <a:ext cx="281016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7440" y="1311120"/>
                    <a:ext cx="2810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335320" y="2274840"/>
          <a:ext cx="233676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5320" y="2274840"/>
                    <a:ext cx="23367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313000" y="1171440"/>
          <a:ext cx="220500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3000" y="1171440"/>
                    <a:ext cx="2205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635760" y="26002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7080" y="39844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608200" y="2367000"/>
          <a:ext cx="277668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08200" y="2367000"/>
                    <a:ext cx="27766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2610000" y="3789360"/>
          <a:ext cx="242244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10000" y="3789360"/>
                    <a:ext cx="2422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259000" y="1162080"/>
          <a:ext cx="180036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9000" y="1162080"/>
                    <a:ext cx="18003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20000" y="227952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9280" y="357012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036960" y="2046240"/>
          <a:ext cx="172404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6960" y="2046240"/>
                    <a:ext cx="17240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3178080" y="3371760"/>
          <a:ext cx="144144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8080" y="3371760"/>
                    <a:ext cx="14414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239920" y="963720"/>
          <a:ext cx="2503440" cy="83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39920" y="963720"/>
                    <a:ext cx="250344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635760" y="26002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7080" y="39844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649600" y="2343240"/>
          <a:ext cx="3751200" cy="82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9600" y="2343240"/>
                    <a:ext cx="3751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655720" y="3633840"/>
          <a:ext cx="3287880" cy="84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5720" y="3633840"/>
                    <a:ext cx="32878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244600" y="1120680"/>
          <a:ext cx="2351160" cy="87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44600" y="1120680"/>
                    <a:ext cx="23511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677880" y="372888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622680" y="2324160"/>
          <a:ext cx="174312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2680" y="2324160"/>
                    <a:ext cx="1743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3635280" y="3406680"/>
          <a:ext cx="171792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3406680"/>
                    <a:ext cx="17179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533680" y="1128600"/>
          <a:ext cx="2500200" cy="83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33680" y="1128600"/>
                    <a:ext cx="2500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677520" y="372888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8600" y="256536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754360" y="2328840"/>
          <a:ext cx="2754360" cy="78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54360" y="2328840"/>
                    <a:ext cx="27543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677880" y="472428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3435480" y="3456000"/>
          <a:ext cx="284616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35480" y="3456000"/>
                    <a:ext cx="28461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467160" y="4695840"/>
          <a:ext cx="2636640" cy="439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67160" y="4695840"/>
                    <a:ext cx="26366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300400" y="1136520"/>
          <a:ext cx="2019240" cy="654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00400" y="1136520"/>
                    <a:ext cx="20192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635760" y="26002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67080" y="39844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741760" y="2409840"/>
          <a:ext cx="2792160" cy="70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41760" y="2409840"/>
                    <a:ext cx="27921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809800" y="3817800"/>
          <a:ext cx="2394000" cy="7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09800" y="3817800"/>
                    <a:ext cx="2394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2492280" y="1189080"/>
          <a:ext cx="2317680" cy="725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2280" y="1189080"/>
                    <a:ext cx="23176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2610000" y="2421000"/>
          <a:ext cx="2081160" cy="725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10000" y="2421000"/>
                    <a:ext cx="20811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205000" y="1352520"/>
          <a:ext cx="2104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5000" y="1352520"/>
                    <a:ext cx="2104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678600" y="256536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47640" y="37083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3097080" y="2508120"/>
          <a:ext cx="2293920" cy="5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97080" y="2508120"/>
                    <a:ext cx="22939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3100320" y="3573360"/>
          <a:ext cx="240516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00320" y="3573360"/>
                    <a:ext cx="2405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2495520" y="1273320"/>
          <a:ext cx="291960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5520" y="1273320"/>
                    <a:ext cx="29196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2994120" y="2448000"/>
          <a:ext cx="4709880" cy="44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94120" y="2448000"/>
                    <a:ext cx="4709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678600" y="247824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49800" y="370836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106800" y="3659040"/>
          <a:ext cx="2863800" cy="44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06800" y="3659040"/>
                    <a:ext cx="28638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60600" y="942840"/>
          <a:ext cx="199872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0600" y="942840"/>
                    <a:ext cx="199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676600" y="2263680"/>
          <a:ext cx="33685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2263680"/>
                    <a:ext cx="33685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092400" y="3836880"/>
          <a:ext cx="2071800" cy="111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2400" y="3836880"/>
                    <a:ext cx="2071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>
            <a:hlinkClick r:id="" action="ppaction://hlinkshowjump?jump=endshow"/>
            <a:hlinkClick r:id="rId1"/>
          </p:cNvPr>
          <p:cNvSpPr/>
          <p:nvPr/>
        </p:nvSpPr>
        <p:spPr>
          <a:xfrm>
            <a:off x="7956720" y="60930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16436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20998200">
            <a:off x="2852640" y="2133360"/>
            <a:ext cx="914400" cy="1312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388800">
            <a:off x="3995640" y="2133360"/>
            <a:ext cx="91440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21243600">
            <a:off x="5138280" y="2133360"/>
            <a:ext cx="914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716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551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©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CPD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507960" y="404640"/>
            <a:ext cx="8096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000"/>
                            </p:stCondLst>
                            <p:childTnLst>
                              <p:par>
                                <p:cTn id="8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7600" y="12193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9240" y="969840"/>
          <a:ext cx="1973160" cy="9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9240" y="969840"/>
                    <a:ext cx="197316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35480" y="2298600"/>
          <a:ext cx="227160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5480" y="2298600"/>
                    <a:ext cx="22716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040" y="382284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14560" y="3456000"/>
          <a:ext cx="2732040" cy="108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4560" y="3456000"/>
                    <a:ext cx="273204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132600" y="3435480"/>
          <a:ext cx="2568600" cy="108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32600" y="3435480"/>
                    <a:ext cx="256860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7600" y="1171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82960" y="1125360"/>
          <a:ext cx="2217600" cy="50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2960" y="1125360"/>
                    <a:ext cx="221760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384280" y="2470320"/>
          <a:ext cx="286416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4280" y="2470320"/>
                    <a:ext cx="2864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16600" y="252900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040" y="382284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30560" y="3768840"/>
          <a:ext cx="98748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0560" y="3768840"/>
                    <a:ext cx="98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799240" y="2438280"/>
          <a:ext cx="2566800" cy="59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9240" y="2438280"/>
                    <a:ext cx="25668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600" y="1171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03360" y="952560"/>
          <a:ext cx="163512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3360" y="952560"/>
                    <a:ext cx="16351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51320" y="2430360"/>
          <a:ext cx="223812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1320" y="2430360"/>
                    <a:ext cx="22381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040" y="382284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17880" y="3641760"/>
          <a:ext cx="276552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17880" y="3641760"/>
                    <a:ext cx="27655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330280" y="1160640"/>
          <a:ext cx="196236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0280" y="1160640"/>
                    <a:ext cx="1962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6600" y="252900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886120" y="2386080"/>
          <a:ext cx="151776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6120" y="2386080"/>
                    <a:ext cx="1517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15880" y="3645000"/>
            <a:ext cx="15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849400" y="3502080"/>
          <a:ext cx="1590840" cy="59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9400" y="3502080"/>
                    <a:ext cx="15908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49440" y="1025640"/>
          <a:ext cx="1295640" cy="114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49440" y="1025640"/>
                    <a:ext cx="129564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878280" y="2430360"/>
          <a:ext cx="138276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78280" y="2430360"/>
                    <a:ext cx="138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640" y="35607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11480" y="3378240"/>
          <a:ext cx="2336760" cy="59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1480" y="3378240"/>
                    <a:ext cx="2336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357720" y="4325760"/>
          <a:ext cx="1842840" cy="52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7720" y="4325760"/>
                    <a:ext cx="18428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2:07:43Z</dcterms:created>
  <dc:creator>Derek Warburton</dc:creator>
  <dc:description/>
  <dc:language>en-US</dc:language>
  <cp:lastModifiedBy>Derek Warburton</cp:lastModifiedBy>
  <dcterms:modified xsi:type="dcterms:W3CDTF">2004-05-17T20:31:37Z</dcterms:modified>
  <cp:revision>317</cp:revision>
  <dc:subject/>
  <dc:title>Standard Grade</dc:title>
</cp:coreProperties>
</file>